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8C7B7768-6943-4056-9EE6-305DD2EB068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8558A046-0311-4F9C-A090-635DB153E67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2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and PSP2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39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ults aren’t accurate enough (a defect has been misse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shows that the student doesn’t understand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2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orderly design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2 and PSP2.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06640" y="1477800"/>
            <a:ext cx="7927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ssignment evaluation criteria include those in PSP1, plus ensuring that historical data are consistently used to improve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getting students to achie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70% or grea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defects &lt; 10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s &lt;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s that are within prediction interv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25440" y="5173560"/>
            <a:ext cx="15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032360" y="2116080"/>
            <a:ext cx="113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efects did you make in PSP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2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SP2 and PSP2.1 Common Errors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2000" y="1477800"/>
            <a:ext cx="7927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and Code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rate &gt; 200 LOC/h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ime &lt; 50% of development time (e.g. 50 min in code and less than 25 minutes in code review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checklists not detailed enoug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taking a break before starting a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reviewing on pap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ing at the wrong time of da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lying on test to remove a high percentage of code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time is less than of 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 using the templa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ration scenario and test report not complimentar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1Z</dcterms:modified>
  <cp:revision>200</cp:revision>
  <dc:subject/>
  <dc:title>No Slide Title</dc:title>
</cp:coreProperties>
</file>